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4A22-B140-4E21-8B92-215C5FE97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48A6-13F5-4BD7-BFDB-709BE7979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D54B-55ED-4B0B-BFBB-5AFEFE2BB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ing at the School C Data, consider these prompts.</a:t>
            </a:r>
            <a:endParaRPr b="0" lang="en-US" sz="12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128D-910E-4444-A66D-C1A6C06BB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3B67-BE34-4614-B04C-66AF9918B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D6959-A077-4A21-8A85-7E314EA2B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E4B08-CC00-47E0-9CFA-C9B002AAB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365ED-AE67-483B-8B93-BB211DC7D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3855B-A062-4A5A-8279-14DB38389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8EB74-D5B7-4A9A-B119-7890D499C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5B72C-E7F9-41D8-B639-F97DA9957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CD629-3A54-4314-A933-E7BC694EF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64C77-2842-426F-AC8E-049DFFAB4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1C65F-6E85-4DB3-8CB2-65E311FA1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CB24A-246E-46A5-9AFD-2F7FA2FA5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2EB13-9569-404E-B18D-BBAEB5809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1593A-5610-4EB8-B25B-BFC14FF0D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C2386-C831-4375-9F3A-EF024A2CA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0DEC1-B331-43D6-A5EB-F4154F579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B0A35-C736-436E-A2CC-3805C2FF1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E7C03-9491-43D6-AFD3-4FE3969DD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4B245-28FF-491F-8381-48ED6659D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B52BB-8704-4FEA-B8EF-C10247CE8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4ABB9-8950-4DA4-B731-1AC7F193C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E547C-5D1A-43C8-902E-B6D789E96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CC8F1-036E-4D85-B14A-B15F60826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29049-4F83-4A21-8A27-898D0890B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3312B-4CDD-4B1B-89AB-3C11501D5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E94DF-9CBE-42E2-A384-8F6F0AF8F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FEF2-3731-48AD-94ED-5E3ED4EF834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9F81-D73B-4215-A6AC-39207A55D80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6"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Engaging in Reflection &amp; Using a Broader Data Base for Decision Making and Monitor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QAO </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s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analysis using TinkerPl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pic>
        <p:nvPicPr>
          <p:cNvPr id="106" name="Picture 2" descr=""/>
          <p:cNvPicPr/>
          <p:nvPr/>
        </p:nvPicPr>
        <p:blipFill>
          <a:blip r:embed="rId1"/>
          <a:stretch/>
        </p:blipFill>
        <p:spPr>
          <a:xfrm>
            <a:off x="695160" y="1905120"/>
            <a:ext cx="7753680" cy="4724280"/>
          </a:xfrm>
          <a:prstGeom prst="rect">
            <a:avLst/>
          </a:prstGeom>
          <a:ln w="0">
            <a:noFill/>
          </a:ln>
        </p:spPr>
      </p:pic>
      <p:pic>
        <p:nvPicPr>
          <p:cNvPr id="107" name="Picture 3" descr=""/>
          <p:cNvPicPr/>
          <p:nvPr/>
        </p:nvPicPr>
        <p:blipFill>
          <a:blip r:embed="rId2"/>
          <a:stretch/>
        </p:blipFill>
        <p:spPr>
          <a:xfrm>
            <a:off x="228600" y="1905120"/>
            <a:ext cx="8325000" cy="26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74592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ngaging in Courageous Conversations</a:t>
            </a:r>
            <a:r>
              <a:rPr b="0" lang="en-US" sz="5000" spc="-1" strike="noStrike">
                <a:solidFill>
                  <a:srgbClr val="0d469b"/>
                </a:solidFill>
                <a:latin typeface="Arial"/>
              </a:rPr>
              <a:t> </a:t>
            </a:r>
            <a:endParaRPr b="0" lang="en-US" sz="5000" spc="-1" strike="noStrike">
              <a:solidFill>
                <a:srgbClr val="0d469b"/>
              </a:solidFill>
              <a:latin typeface="Arial"/>
            </a:endParaRPr>
          </a:p>
        </p:txBody>
      </p:sp>
      <p:sp>
        <p:nvSpPr>
          <p:cNvPr id="109" name=""/>
          <p:cNvSpPr txBox="1"/>
          <p:nvPr/>
        </p:nvSpPr>
        <p:spPr>
          <a:xfrm>
            <a:off x="457200" y="2071800"/>
            <a:ext cx="8229600" cy="4525920"/>
          </a:xfrm>
          <a:prstGeom prst="rect">
            <a:avLst/>
          </a:prstGeom>
          <a:noFill/>
          <a:ln w="0">
            <a:noFill/>
          </a:ln>
        </p:spPr>
        <p:txBody>
          <a:bodyPr anchor="t">
            <a:normAutofit/>
          </a:bodyPr>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king Connections to Math Leadership Frameworks…</a:t>
            </a:r>
            <a:endParaRPr b="0" lang="en-US" sz="2400" spc="-1" strike="noStrike">
              <a:solidFill>
                <a:srgbClr val="ff0000"/>
              </a:solidFill>
              <a:latin typeface="Arial"/>
            </a:endParaRPr>
          </a:p>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w insights have you gained from this activity?</a:t>
            </a:r>
            <a:endParaRPr b="0" lang="en-US" sz="2400" spc="-1" strike="noStrike">
              <a:solidFill>
                <a:srgbClr val="ff0000"/>
              </a:solidFill>
              <a:latin typeface="Arial"/>
            </a:endParaRPr>
          </a:p>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urther annotations can you add to your map?</a:t>
            </a: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xt steps are you considering related to using data and engaging in courageous conversations as a mathematics leader?</a:t>
            </a: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7-19T19:11:07Z</dcterms:modified>
  <cp:revision>134</cp:revision>
  <dc:subject/>
  <dc:title>Slide 1</dc:title>
</cp:coreProperties>
</file>